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970-3DF4-4B14-8957-2DCD0656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9BF5-D6FD-40F5-8880-38B52254F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AB5-FA33-4A41-8D3C-8CAEC39DF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F3C8-46BD-4ABE-88E3-9CFE064EE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822B-1340-4158-9200-E37B44561E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575-2806-41D8-884B-D0FDDC980C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8EA-B417-4104-A71A-2C7C76B2BD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75D1-0D0D-4F5C-A66F-C5A5CAC54A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A168-F01F-44E4-B184-B8AFFF1C60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F76C-243C-4B64-92D1-D0D2B9823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856-CCC3-4250-B46E-CA046FFFB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1D5-6A90-4E8B-84BC-4E44A016B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D95E-5A89-456D-8AE1-CAA6E6432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5414-3138-490F-A6A8-D7CB9D1CD2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A362-C136-49C4-8D44-B0D1574068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DE7-8ABD-463B-946C-6FF7E1FB06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EAB-7F9D-40B4-9163-B95CACA175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B176-F6B3-475F-B4D7-B4EEDA0AB1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DD06-F431-4CD9-84FD-91787619AD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C16-A90C-4BFD-85A8-2E27F4F52F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3F9C-0C6F-4FD8-BBE1-F49CC46A28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352A-5BC8-48A7-8A16-950AD49EEC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C8C5-737F-4091-8E63-514AB08CA3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E33-248B-436A-AE58-7FE8ABEF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40D-1845-4E57-895C-660F809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E0F-3C1C-463F-9D51-83BFD7F1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565-049A-4CAD-AA27-CDD51502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9B2D-5F34-46D8-8123-F02D28E6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868E-B2DA-41F2-964E-5AD60D31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37ED-23BF-4E8A-9096-EFE1F65A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7C4B-2CFB-4C1C-AC22-0BFD4906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733A-F8B5-473E-9C4C-E7AB323C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6DC2-0562-4836-AF27-B8BD444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AECB-E21E-458F-AE79-8EA5F4C2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D6C-2A6F-4852-85A3-81E29670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B83C-C765-47BD-B6C9-0E236EA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D1F1-2298-464B-BD6F-7D07625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1644-14D4-4F2B-B316-E10C4A0D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3430-375B-4AB4-927A-CB4EFACA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990B-600A-42AA-8F62-CB5732C0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848-8481-41A3-AE2D-5598251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DAA-CDB8-4803-A592-A9EC3047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EF1-7553-407D-BE2B-170FD3A8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BB7-5646-4A3C-A056-9D46327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A33-59FF-4B4D-BE97-24A8E8B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D9C-9886-4958-B754-F565FA2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4CB-4B58-4529-8323-CD7B624D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972-00B2-44F7-924B-28A0CD766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612B-089A-48F8-87E0-A8E25B4A9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Nutrient Cyc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Imp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s have increased the amount of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atmosphere from burning fossil fuels and w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troge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nitrogen is needed to make many compounds found in th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zy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oirs/Sin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(78%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as, but we can’t use it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 (tissues of living thin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teria perform many processes in the nitrogen cycle (nitrogen fixation, ammonification, denitrification, decompositi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N2 (gas)  in the atmosphere and making it available in the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teri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562360" y="228240"/>
            <a:ext cx="33526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elemental N2 in the soil and turning it into as NH4+ Ammo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fixing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Ammonium NH4+ and turning it into Nitrates NO2- then into Nitrites NO3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usable by plan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e by two different types of 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it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NO3- (nitrate) and turns back into gas N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714640" y="228240"/>
            <a:ext cx="297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 and animals take in the nitrogen and convert it into the amino acids and DNA they need and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 and anim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5000" y="228240"/>
            <a:ext cx="32767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ing organic nitrogen from decomposing plants and animals or animal waste and turning into Ammonium NH4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teria, of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Generalized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erial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ve between the regions of the earth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ydr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it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c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Imp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aber-Bosch Process removes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the atmosphere and use it to make fertiliz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tassi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It is a mineral that is needed for muscle growth and for the normal function of cells and tiss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tassium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48160" y="144756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oirs/sink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osphere: Mineral deposits and surface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: Tissues of living th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841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tassium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x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th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take by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needed for many biological compounds such as DNA and for bone 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oirs/Sink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osphere: Earth’s crust and top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: tissue of living th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x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thering of r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Impac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-off from farms contains high levels of phosphorus which make their way into streams, riv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o much of a good thing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trophication: build-up of too many nutrients such as nitrogen or phosphorus in a body of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ss nutrients cause excessive algae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lgae blocks sunlight from reaching the bottom, causing other algae to d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teria populations increase and feed off of the dead algae and use up all the oxygen in the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oxygen levels cause other aquatic organisms to die to leave the 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utrophic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500px-Eutrophication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ycle Terminolog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servoi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reas where things are stored; things can move in an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n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reas where materials are stored over long periods of time and in large qua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lux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rocesses that move mater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utrophic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algae-bloom"/>
          <p:cNvPicPr/>
          <p:nvPr/>
        </p:nvPicPr>
        <p:blipFill>
          <a:blip r:embed="rId1"/>
          <a:stretch/>
        </p:blipFill>
        <p:spPr>
          <a:xfrm>
            <a:off x="304920" y="2895480"/>
            <a:ext cx="3429000" cy="2156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fish"/>
          <p:cNvPicPr/>
          <p:nvPr/>
        </p:nvPicPr>
        <p:blipFill>
          <a:blip r:embed="rId2"/>
          <a:stretch/>
        </p:blipFill>
        <p:spPr>
          <a:xfrm>
            <a:off x="5257800" y="1600200"/>
            <a:ext cx="3390840" cy="3467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swan_algae"/>
          <p:cNvPicPr/>
          <p:nvPr/>
        </p:nvPicPr>
        <p:blipFill>
          <a:blip r:embed="rId3"/>
          <a:stretch/>
        </p:blipFill>
        <p:spPr>
          <a:xfrm>
            <a:off x="2895480" y="2438280"/>
            <a:ext cx="25988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rb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: Life on Earth is carbon based- we are made of molecules that contain carb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cell in your body contains carb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67280" y="1599840"/>
            <a:ext cx="2895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servoi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phere- Tissues of plants, animals, fungi, bacteria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osphere- top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in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ssil Fuels (coal, oil, natural g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ck- lime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lux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ning fossil fu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ning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hort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-&gt; 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ing or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mosp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i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-&gt; 6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ontent Placeholder 3" descr="36-15-CarbonCycle-L.gif"/>
          <p:cNvPicPr/>
          <p:nvPr/>
        </p:nvPicPr>
        <p:blipFill>
          <a:blip r:embed="rId1"/>
          <a:stretch/>
        </p:blipFill>
        <p:spPr>
          <a:xfrm>
            <a:off x="228600" y="228600"/>
            <a:ext cx="54864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le 1"/>
          <p:cNvSpPr/>
          <p:nvPr/>
        </p:nvSpPr>
        <p:spPr>
          <a:xfrm>
            <a:off x="5791320" y="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ng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Placeholder 3"/>
          <p:cNvSpPr/>
          <p:nvPr/>
        </p:nvSpPr>
        <p:spPr>
          <a:xfrm>
            <a:off x="228600" y="3733920"/>
            <a:ext cx="8381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-&gt; 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ting or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imals &amp; Pl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ar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arth to Fossil Fuels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action + millions of year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ssil Fuels to Atmosphere v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Content Placeholder 3" descr="36-15-CarbonCycle-L.gif"/>
          <p:cNvPicPr/>
          <p:nvPr/>
        </p:nvPicPr>
        <p:blipFill>
          <a:blip r:embed="rId1"/>
          <a:stretch/>
        </p:blipFill>
        <p:spPr>
          <a:xfrm>
            <a:off x="228600" y="228600"/>
            <a:ext cx="510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4:10:04Z</dcterms:created>
  <dc:creator>deweesa</dc:creator>
  <dc:description/>
  <dc:language>en-US</dc:language>
  <cp:lastModifiedBy>Anne E. Van Meter</cp:lastModifiedBy>
  <dcterms:modified xsi:type="dcterms:W3CDTF">2009-10-06T13:31:40Z</dcterms:modified>
  <cp:revision>13</cp:revision>
  <dc:subject/>
  <dc:title>Nutrient Cycles</dc:title>
</cp:coreProperties>
</file>